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E9AE-5E9B-4691-A470-15C6279D81D4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5BBE-FCF6-4065-88A6-C8F37FFDB5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CE16-8AA2-475B-A25B-CC5B53064B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5EDB-CCB1-4EA3-98AF-3082C76264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417F-DF58-48B8-83CE-AE596DB786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F4E7-287C-4F11-8360-33624D0419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3201-B1C4-4A37-B260-A2C38D1750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428D-DD80-4BE0-842E-2E2AC77CBB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27D3-D295-430C-8A57-608D28E292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EE6A-C7E8-4D2C-83DB-9E775381ED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1EBF-4DCE-400C-B75E-A0670E5315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946F-ACFE-4F93-9F37-A9214656CB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C93B-3D1F-485F-8D15-FC091C1068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C73E-1038-4393-A352-A4745FFD9F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BE4F-53D7-415B-BC62-230DF18D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82E3-EAC0-4776-A2BE-C26FA72B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F26A-C7FA-42F9-A895-F6480C4EF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DF3F-7828-4398-815E-7A03018D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C4DB-407B-45E1-92CC-36C2A63B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B266-4CD6-48A3-B07C-5A161121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4F6A-C80C-4C49-8D37-EA787B15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D420-4A77-41A4-AC46-3341DC7D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B8E4-413E-40DF-9C2D-82DE1014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19C9-49C0-4E0D-A636-6B8AE1B1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395D-27CB-4340-81EB-473AE4BF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A27B-E9BB-4E1E-A0DA-4377F91E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33D8-FFAA-47BE-93B7-2F47C104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50CE-9DE4-4907-8F3D-AA50A6C7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AD1A-EA0F-4934-9AF2-AFB76A07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D3C4-C416-4E1D-AF46-56FA81A7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8CF0-DE29-409A-9AAE-ACDCCE512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E524-840E-490F-9B1F-789ADDD8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8696-A056-4448-9193-1C94C1FD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4800-ACBE-4F9E-950D-8834980A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047B-26E7-4484-A8E0-8D89AB3F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BFDB-D796-45EF-869B-97FD8528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AD49-7CB5-4BD8-B0AB-E7EB0800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9481-CBCD-43EB-8C81-2A492C48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85DB-1BC3-4FAA-81C8-92005D915E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27AF-FE15-4EB8-A68A-F3046FAC86F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mikehulme.org/wp-content/uploads/2007/04/2004-dessai-hulme-probabilities.pdf" TargetMode="External"/><Relationship Id="rId2" Type="http://schemas.openxmlformats.org/officeDocument/2006/relationships/hyperlink" Target="http://browse.oecdbookshop.org/oecd/pdfs/browseit/4309171E.PDF" TargetMode="External"/><Relationship Id="rId3" Type="http://schemas.openxmlformats.org/officeDocument/2006/relationships/hyperlink" Target="http://browse.oecdbookshop.org/oecd/pdfs/browseit/4309171E.PDF" TargetMode="External"/><Relationship Id="rId4" Type="http://schemas.openxmlformats.org/officeDocument/2006/relationships/hyperlink" Target="http://www.undp.org/climatechange/library_integrating_cc.shtml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2565360"/>
            <a:ext cx="8856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ódulo 5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Integración en las políticas, las estrategias y los programas nacionales, sectoriales y subnacional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8920" y="4797360"/>
            <a:ext cx="8533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Verdana"/>
              </a:rPr>
              <a:t>Integración del medio ambiente y del cambio climático a nivel nacional 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97000"/>
          </a:bodyPr>
          <a:p>
            <a:pPr marL="332640" indent="-33264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Verdana"/>
              </a:rPr>
              <a:t>Herramientas para integrar el medio ambiente y el cambio climático en procesos estratégicos de planificación y política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629C-2A00-4123-864F-42856858E8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Las herramientas que apoyan la sensibilización..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8262-0F46-4001-ADD5-F3E4BB5AA2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Rounded Rectangle 4"/>
          <p:cNvSpPr/>
          <p:nvPr/>
        </p:nvSpPr>
        <p:spPr>
          <a:xfrm>
            <a:off x="5419800" y="3008160"/>
            <a:ext cx="2247840" cy="1044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Sensibilizació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Rounded Rectangle 5"/>
          <p:cNvSpPr/>
          <p:nvPr/>
        </p:nvSpPr>
        <p:spPr>
          <a:xfrm>
            <a:off x="5419800" y="4379760"/>
            <a:ext cx="2247840" cy="1044720"/>
          </a:xfrm>
          <a:prstGeom prst="roundRect">
            <a:avLst>
              <a:gd name="adj" fmla="val 16667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Influencia sobre las política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Left Brace 6"/>
          <p:cNvSpPr/>
          <p:nvPr/>
        </p:nvSpPr>
        <p:spPr>
          <a:xfrm flipH="1" rot="10800000">
            <a:off x="5150520" y="2857320"/>
            <a:ext cx="182520" cy="2819160"/>
          </a:xfrm>
          <a:custGeom>
            <a:avLst/>
            <a:gdLst>
              <a:gd name="textAreaLeft" fmla="*/ 116280 w 182520"/>
              <a:gd name="textAreaRight" fmla="*/ 182520 w 182520"/>
              <a:gd name="textAreaTop" fmla="*/ 4680 h 2819160"/>
              <a:gd name="textAreaBottom" fmla="*/ 281448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9"/>
                  <a:pt x="10800" y="117"/>
                </a:cubicBezTo>
                <a:lnTo>
                  <a:pt x="10800" y="10683"/>
                </a:lnTo>
                <a:cubicBezTo>
                  <a:pt x="10800" y="10742"/>
                  <a:pt x="5400" y="10800"/>
                  <a:pt x="0" y="10800"/>
                </a:cubicBezTo>
                <a:cubicBezTo>
                  <a:pt x="5400" y="10800"/>
                  <a:pt x="10800" y="10859"/>
                  <a:pt x="10800" y="10917"/>
                </a:cubicBezTo>
                <a:lnTo>
                  <a:pt x="10800" y="21483"/>
                </a:lnTo>
                <a:cubicBezTo>
                  <a:pt x="10800" y="2154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Flowchart: Document 7"/>
          <p:cNvSpPr/>
          <p:nvPr/>
        </p:nvSpPr>
        <p:spPr>
          <a:xfrm>
            <a:off x="1219320" y="2362320"/>
            <a:ext cx="2438280" cy="106668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Evaluaciones de vulnerabilidad y adaptació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Flowchart: Document 8"/>
          <p:cNvSpPr/>
          <p:nvPr/>
        </p:nvSpPr>
        <p:spPr>
          <a:xfrm>
            <a:off x="1219320" y="3505320"/>
            <a:ext cx="2438280" cy="106668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Análisis macro y mesoeconómic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Flowchart: Document 9"/>
          <p:cNvSpPr/>
          <p:nvPr/>
        </p:nvSpPr>
        <p:spPr>
          <a:xfrm>
            <a:off x="1219320" y="4724280"/>
            <a:ext cx="2438280" cy="76212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Proyectos de demostració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0" name="Straight Arrow Connector 10"/>
          <p:cNvCxnSpPr>
            <a:stCxn id="197" idx="3"/>
            <a:endCxn id="196" idx="1"/>
          </p:cNvCxnSpPr>
          <p:nvPr/>
        </p:nvCxnSpPr>
        <p:spPr>
          <a:xfrm>
            <a:off x="3657600" y="2895480"/>
            <a:ext cx="1494720" cy="13723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01" name="Straight Arrow Connector 11"/>
          <p:cNvCxnSpPr>
            <a:stCxn id="198" idx="3"/>
            <a:endCxn id="196" idx="1"/>
          </p:cNvCxnSpPr>
          <p:nvPr/>
        </p:nvCxnSpPr>
        <p:spPr>
          <a:xfrm>
            <a:off x="3657600" y="4038120"/>
            <a:ext cx="1494720" cy="2293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02" name="Straight Arrow Connector 12"/>
          <p:cNvCxnSpPr>
            <a:stCxn id="199" idx="3"/>
            <a:endCxn id="196" idx="1"/>
          </p:cNvCxnSpPr>
          <p:nvPr/>
        </p:nvCxnSpPr>
        <p:spPr>
          <a:xfrm flipV="1">
            <a:off x="3657600" y="4266360"/>
            <a:ext cx="1494720" cy="8391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03" name="Cloud Callout 27"/>
          <p:cNvSpPr/>
          <p:nvPr/>
        </p:nvSpPr>
        <p:spPr>
          <a:xfrm>
            <a:off x="3733920" y="990720"/>
            <a:ext cx="4725720" cy="1600200"/>
          </a:xfrm>
          <a:prstGeom prst="cloudCallout">
            <a:avLst>
              <a:gd name="adj1" fmla="val -51694"/>
              <a:gd name="adj2" fmla="val -65513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... también son útiles para influir en las políticas e informar los procesos de planificació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4" name="Straight Arrow Connector 14"/>
          <p:cNvCxnSpPr>
            <a:stCxn id="194" idx="2"/>
            <a:endCxn id="195" idx="0"/>
          </p:cNvCxnSpPr>
          <p:nvPr/>
        </p:nvCxnSpPr>
        <p:spPr>
          <a:xfrm>
            <a:off x="6543360" y="4052880"/>
            <a:ext cx="1080" cy="3276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205" name="TextBox 22"/>
          <p:cNvSpPr/>
          <p:nvPr/>
        </p:nvSpPr>
        <p:spPr>
          <a:xfrm>
            <a:off x="4281480" y="630864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ado de: UNDP-UNEP (2009, 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Flowchart: Document 7"/>
          <p:cNvSpPr/>
          <p:nvPr/>
        </p:nvSpPr>
        <p:spPr>
          <a:xfrm>
            <a:off x="1219320" y="1295280"/>
            <a:ext cx="2438280" cy="99072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Evaluaciones integradas de ecosistema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7" name="Straight Arrow Connector 13"/>
          <p:cNvCxnSpPr>
            <a:stCxn id="206" idx="3"/>
            <a:endCxn id="196" idx="1"/>
          </p:cNvCxnSpPr>
          <p:nvPr/>
        </p:nvCxnSpPr>
        <p:spPr>
          <a:xfrm>
            <a:off x="3657600" y="1790280"/>
            <a:ext cx="1494720" cy="24771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08" name="Flowchart: Document 9"/>
          <p:cNvSpPr/>
          <p:nvPr/>
        </p:nvSpPr>
        <p:spPr>
          <a:xfrm>
            <a:off x="1219320" y="5638680"/>
            <a:ext cx="2438280" cy="106704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Estrategia de conocimiento, comunicación y defensa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9" name="Straight Arrow Connector 30"/>
          <p:cNvCxnSpPr>
            <a:stCxn id="208" idx="3"/>
            <a:endCxn id="196" idx="1"/>
          </p:cNvCxnSpPr>
          <p:nvPr/>
        </p:nvCxnSpPr>
        <p:spPr>
          <a:xfrm flipV="1">
            <a:off x="3657600" y="4266720"/>
            <a:ext cx="1494720" cy="1905840"/>
          </a:xfrm>
          <a:prstGeom prst="straightConnector1">
            <a:avLst/>
          </a:prstGeom>
          <a:ln w="25560">
            <a:solidFill>
              <a:srgbClr val="0066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Directrices de EuropeAid para la integración del medio ambiente y el cambio climático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2EB4-7D12-4B4A-88BF-F046097D76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4114800" y="1484280"/>
            <a:ext cx="4800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nexo 1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Aspectos ambientales generales en áreas focales de la cooperación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nexo 4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Directrices para integrar aspectos ambientales y relacionados con el clima en los estudios de formulación de un PAP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nexo 9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Directrices para la integración del medio ambiente y los aspectos relacionados con el clima en los estudios de formulación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3" name="Picture 1" descr="guidelines ES.jpg"/>
          <p:cNvPicPr/>
          <p:nvPr/>
        </p:nvPicPr>
        <p:blipFill>
          <a:blip r:embed="rId1"/>
          <a:stretch/>
        </p:blipFill>
        <p:spPr>
          <a:xfrm>
            <a:off x="108000" y="1125360"/>
            <a:ext cx="395928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9280" y="-27000"/>
            <a:ext cx="8445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Directrices sectoriales específicas sobre el cambio climático de EuropeAid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5" name="Content Placeholder 4" descr="sector script cover .tiff"/>
          <p:cNvPicPr/>
          <p:nvPr/>
        </p:nvPicPr>
        <p:blipFill>
          <a:blip r:embed="rId1"/>
          <a:srcRect l="-78212" t="0" r="-78212" b="0"/>
          <a:stretch/>
        </p:blipFill>
        <p:spPr>
          <a:xfrm>
            <a:off x="-2209680" y="1676520"/>
            <a:ext cx="8458200" cy="4876560"/>
          </a:xfrm>
          <a:prstGeom prst="rect">
            <a:avLst/>
          </a:prstGeom>
          <a:ln w="0">
            <a:noFill/>
          </a:ln>
        </p:spPr>
      </p:pic>
      <p:sp>
        <p:nvSpPr>
          <p:cNvPr id="2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7183-A609-4CC7-BE8D-57B6C8498A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3809880" y="1905120"/>
            <a:ext cx="4800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gricultura y desarrollo rura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Gestión de ecosistemas y de la biodiversidad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ducación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uministro de energía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alud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fraestructura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Gestión de residuos sólidos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omercio e inversión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uministro de agua y saneamiento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6095880" y="661356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D93C-6A69-45EA-8204-754C421686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valuación Ambiental Estratégica (EAE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2180880"/>
            <a:ext cx="8077320" cy="35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Un proceso iterativo y participativo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nálisis de las posibles consecuencias ambientales de las políticas/planes/programas propuestos, así como de las oportunidades, los riesgos y las limitaciones ambientales principales que deben tenerse en cuenta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onsideración de los efectos previstos del cambio climátic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l objeto de fomentar un desarrollo más sostenibl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Rounded Rectangle 5"/>
          <p:cNvSpPr/>
          <p:nvPr/>
        </p:nvSpPr>
        <p:spPr>
          <a:xfrm>
            <a:off x="1219320" y="5300640"/>
            <a:ext cx="6705360" cy="1252440"/>
          </a:xfrm>
          <a:prstGeom prst="roundRect">
            <a:avLst>
              <a:gd name="adj" fmla="val 16667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segura que se tengan en cuenta las consideraciones ambientales de forma ANTICIPADA en el proceso de definición de políticas y planificación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nfoques con respecto a EA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89000"/>
            <a:ext cx="83628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Basado en el borrador de la PPP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vs.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la elaboración de la PPP de forma paralela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vs.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totalmente integrada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86E2-26F2-41E9-996C-506EAECA86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TextBox 22"/>
          <p:cNvSpPr/>
          <p:nvPr/>
        </p:nvSpPr>
        <p:spPr>
          <a:xfrm>
            <a:off x="4038480" y="643428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ado de: GTZ (nd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26" name="Picture 1" descr="EAE1ES.jpg"/>
          <p:cNvPicPr/>
          <p:nvPr/>
        </p:nvPicPr>
        <p:blipFill>
          <a:blip r:embed="rId1"/>
          <a:stretch/>
        </p:blipFill>
        <p:spPr>
          <a:xfrm>
            <a:off x="108000" y="3270240"/>
            <a:ext cx="4356000" cy="28954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EAE2ES.png"/>
          <p:cNvPicPr/>
          <p:nvPr/>
        </p:nvPicPr>
        <p:blipFill>
          <a:blip r:embed="rId2"/>
          <a:stretch/>
        </p:blipFill>
        <p:spPr>
          <a:xfrm>
            <a:off x="4697280" y="3213000"/>
            <a:ext cx="444672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Directrices para EA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EEA9-5451-4894-B506-69548214F4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0" y="1139760"/>
            <a:ext cx="3095640" cy="4953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2"/>
          <a:stretch/>
        </p:blipFill>
        <p:spPr>
          <a:xfrm>
            <a:off x="3124080" y="990720"/>
            <a:ext cx="2514600" cy="3566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"/>
          <p:cNvPicPr/>
          <p:nvPr/>
        </p:nvPicPr>
        <p:blipFill>
          <a:blip r:embed="rId3"/>
          <a:stretch/>
        </p:blipFill>
        <p:spPr>
          <a:xfrm>
            <a:off x="6095880" y="990720"/>
            <a:ext cx="2514600" cy="3581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"/>
          <p:cNvPicPr/>
          <p:nvPr/>
        </p:nvPicPr>
        <p:blipFill>
          <a:blip r:embed="rId4"/>
          <a:stretch/>
        </p:blipFill>
        <p:spPr>
          <a:xfrm>
            <a:off x="3429000" y="2133720"/>
            <a:ext cx="2514600" cy="3429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"/>
          <p:cNvPicPr/>
          <p:nvPr/>
        </p:nvPicPr>
        <p:blipFill>
          <a:blip r:embed="rId5"/>
          <a:stretch/>
        </p:blipFill>
        <p:spPr>
          <a:xfrm>
            <a:off x="6629400" y="2057400"/>
            <a:ext cx="2514600" cy="3581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"/>
          <p:cNvPicPr/>
          <p:nvPr/>
        </p:nvPicPr>
        <p:blipFill>
          <a:blip r:embed="rId6"/>
          <a:stretch/>
        </p:blipFill>
        <p:spPr>
          <a:xfrm>
            <a:off x="3809880" y="3219480"/>
            <a:ext cx="251460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0" y="126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Ejemplos de EA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9ED7-B0F2-4F21-9306-4CE50CEA3A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8" name="Picture 4" descr="SEA report Rwanda cover.png"/>
          <p:cNvPicPr/>
          <p:nvPr/>
        </p:nvPicPr>
        <p:blipFill>
          <a:blip r:embed="rId1"/>
          <a:stretch/>
        </p:blipFill>
        <p:spPr>
          <a:xfrm>
            <a:off x="33480" y="2021040"/>
            <a:ext cx="2798640" cy="3809880"/>
          </a:xfrm>
          <a:prstGeom prst="rect">
            <a:avLst/>
          </a:prstGeom>
          <a:ln w="0">
            <a:noFill/>
          </a:ln>
        </p:spPr>
      </p:pic>
      <p:sp>
        <p:nvSpPr>
          <p:cNvPr id="239" name="TextBox 5"/>
          <p:cNvSpPr/>
          <p:nvPr/>
        </p:nvSpPr>
        <p:spPr>
          <a:xfrm>
            <a:off x="0" y="605952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EAE de la política agrícola de Ruand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40" name="Picture 7" descr="SEA report Zambia cover.png"/>
          <p:cNvPicPr/>
          <p:nvPr/>
        </p:nvPicPr>
        <p:blipFill>
          <a:blip r:embed="rId2"/>
          <a:stretch/>
        </p:blipFill>
        <p:spPr>
          <a:xfrm>
            <a:off x="3048120" y="1258920"/>
            <a:ext cx="2892240" cy="3809880"/>
          </a:xfrm>
          <a:prstGeom prst="rect">
            <a:avLst/>
          </a:prstGeom>
          <a:ln w="0">
            <a:noFill/>
          </a:ln>
        </p:spPr>
      </p:pic>
      <p:sp>
        <p:nvSpPr>
          <p:cNvPr id="241" name="TextBox 8"/>
          <p:cNvSpPr/>
          <p:nvPr/>
        </p:nvSpPr>
        <p:spPr>
          <a:xfrm>
            <a:off x="3048120" y="5221440"/>
            <a:ext cx="28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EAE de la reforma del sector azucarero de Zambi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42" name="Picture 9" descr="SEA mining SL cover.png"/>
          <p:cNvPicPr/>
          <p:nvPr/>
        </p:nvPicPr>
        <p:blipFill>
          <a:blip r:embed="rId3"/>
          <a:stretch/>
        </p:blipFill>
        <p:spPr>
          <a:xfrm>
            <a:off x="6124680" y="152280"/>
            <a:ext cx="2993760" cy="44197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0"/>
          <p:cNvSpPr/>
          <p:nvPr/>
        </p:nvSpPr>
        <p:spPr>
          <a:xfrm>
            <a:off x="6222960" y="4724280"/>
            <a:ext cx="28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EAE de la reforma del sector minero de Sierra Leon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Ejemplo: apoyar el desarrollo de un sistema de EAE nacional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63700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n Chile, la UE apoyó el desarrollo del sistema de EAE naciona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stablecer un departamento de EAE en el seno de la autoridad medioambienta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sarrollo de un marco reglamentario y asesoramient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AE pilotos para desarrollar capacidades y poner a prueba el sistema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Tamizado de riesgos climático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413000"/>
            <a:ext cx="815328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dentifica los riesgos potenciales para un programa o proyecto mediante la evaluación, en su contexto específico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Para apoyar este ejercicio puede desarrollarse un </a:t>
            </a:r>
            <a:r>
              <a:rPr b="0" i="1" lang="en-GB" sz="2400" spc="-1" strike="noStrike">
                <a:solidFill>
                  <a:srgbClr val="002060"/>
                </a:solidFill>
                <a:latin typeface="Verdana"/>
              </a:rPr>
              <a:t>cuestionario de tamizado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estánda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297F-64CA-49C9-90D2-2910B7F5CA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Rounded Rectangle 4"/>
          <p:cNvSpPr/>
          <p:nvPr/>
        </p:nvSpPr>
        <p:spPr>
          <a:xfrm>
            <a:off x="826920" y="2819520"/>
            <a:ext cx="2830680" cy="7538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Exposición a los efectos del cambio climátic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Rounded Rectangle 5"/>
          <p:cNvSpPr/>
          <p:nvPr/>
        </p:nvSpPr>
        <p:spPr>
          <a:xfrm>
            <a:off x="826920" y="3683160"/>
            <a:ext cx="2808360" cy="6094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Sensibilidad ante dichos efecto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Rounded Rectangle 6"/>
          <p:cNvSpPr/>
          <p:nvPr/>
        </p:nvSpPr>
        <p:spPr>
          <a:xfrm>
            <a:off x="826920" y="4437000"/>
            <a:ext cx="2808360" cy="814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Respuesta y capacidad de adaptació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Rounded Rectangle 7"/>
          <p:cNvSpPr/>
          <p:nvPr/>
        </p:nvSpPr>
        <p:spPr>
          <a:xfrm>
            <a:off x="4648320" y="2819520"/>
            <a:ext cx="2732040" cy="7538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Riesgo de adaptación errónea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Rounded Rectangle 8"/>
          <p:cNvSpPr/>
          <p:nvPr/>
        </p:nvSpPr>
        <p:spPr>
          <a:xfrm>
            <a:off x="4648320" y="3789360"/>
            <a:ext cx="2732040" cy="15112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Impactos sobre el clima 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(emisiones de GEI /eliminaciones de emisiones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2514240"/>
            <a:ext cx="853416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Verdana"/>
              </a:rPr>
              <a:t>¿Por qué integrar el medio ambiente y el cambio climático a nivel nacional, sectorial y subnacional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D6AF-0360-4980-96C5-59BC496907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Tamizado de riesgos climático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4130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Diferentes herramientas disponibles, p.ej.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-2656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DAPT (Banco Mundial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-2656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RISTAL (SDC, IISD, SEI, IUCN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-2656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limate-FIRST (ADB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-2656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ORCHID (Dfid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-2656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RISP (Dfid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-2656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NAPAssess (SEI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-2656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daptation Wizard (Programa del Reino Unido sobre los efectos del cambio climático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-2656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Matriz de tamizado de cambio climático de Danida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Véase, p.ej.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-2656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UNDP (2010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-2656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UNDP, UNEP, UNEP Riso Centre (2011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3EC7-39FA-4AC3-ABBE-2BB9687DAD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1008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esultados del tamizado de riesgos climático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7780-AB88-4829-8ADF-3AA89F14CD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Rounded Rectangle 3"/>
          <p:cNvSpPr/>
          <p:nvPr/>
        </p:nvSpPr>
        <p:spPr>
          <a:xfrm>
            <a:off x="468360" y="5280120"/>
            <a:ext cx="2050920" cy="86364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Calibri"/>
              </a:rPr>
              <a:t>Emisiones de GEI o eliminación de emisiones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Rounded Rectangle 4"/>
          <p:cNvSpPr/>
          <p:nvPr/>
        </p:nvSpPr>
        <p:spPr>
          <a:xfrm>
            <a:off x="2971800" y="57913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Significativa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Rounded Rectangle 5"/>
          <p:cNvSpPr/>
          <p:nvPr/>
        </p:nvSpPr>
        <p:spPr>
          <a:xfrm>
            <a:off x="4952880" y="1341360"/>
            <a:ext cx="3940200" cy="406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Sin acción específica o con medidas limitada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Rounded Rectangle 6"/>
          <p:cNvSpPr/>
          <p:nvPr/>
        </p:nvSpPr>
        <p:spPr>
          <a:xfrm>
            <a:off x="4952880" y="1841400"/>
            <a:ext cx="3940200" cy="57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Más investigación, medidas de adaptació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Rounded Rectangle 7"/>
          <p:cNvSpPr/>
          <p:nvPr/>
        </p:nvSpPr>
        <p:spPr>
          <a:xfrm>
            <a:off x="4952880" y="2529000"/>
            <a:ext cx="3940200" cy="82872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Más investigación, nuevo diseño para una menor vulnerabilidad/mayor capacidad de adaptación, o incluso abando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Rounded Rectangle 8"/>
          <p:cNvSpPr/>
          <p:nvPr/>
        </p:nvSpPr>
        <p:spPr>
          <a:xfrm>
            <a:off x="4952880" y="3500280"/>
            <a:ext cx="3940200" cy="43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Calibri"/>
              </a:rPr>
              <a:t>Sin acción específica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5" name="Rounded Rectangle 9"/>
          <p:cNvSpPr/>
          <p:nvPr/>
        </p:nvSpPr>
        <p:spPr>
          <a:xfrm>
            <a:off x="4932360" y="4076640"/>
            <a:ext cx="3960720" cy="8002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Más investigación, nuevo diseño para un menor riesgo de adaptación errónea, o incluso abando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6" name="Rounded Rectangle 10"/>
          <p:cNvSpPr/>
          <p:nvPr/>
        </p:nvSpPr>
        <p:spPr>
          <a:xfrm>
            <a:off x="4952880" y="5157720"/>
            <a:ext cx="3940200" cy="455760"/>
          </a:xfrm>
          <a:prstGeom prst="roundRect">
            <a:avLst>
              <a:gd name="adj" fmla="val 16667"/>
            </a:avLst>
          </a:prstGeom>
          <a:solidFill>
            <a:srgbClr val="b6e134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2673"/>
                </a:solidFill>
                <a:latin typeface="Calibri"/>
              </a:rPr>
              <a:t>Sin acción específica o con medidas limitada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Rounded Rectangle 11"/>
          <p:cNvSpPr/>
          <p:nvPr/>
        </p:nvSpPr>
        <p:spPr>
          <a:xfrm>
            <a:off x="4952880" y="5791320"/>
            <a:ext cx="3940200" cy="50328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Mayor investigación y mejora del potencial de mitigació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Rounded Rectangle 12"/>
          <p:cNvSpPr/>
          <p:nvPr/>
        </p:nvSpPr>
        <p:spPr>
          <a:xfrm>
            <a:off x="468360" y="1703520"/>
            <a:ext cx="2050920" cy="86364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Calibri"/>
              </a:rPr>
              <a:t>Vulnerabilidad a los efectos del cambio climático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Rounded Rectangle 13"/>
          <p:cNvSpPr/>
          <p:nvPr/>
        </p:nvSpPr>
        <p:spPr>
          <a:xfrm>
            <a:off x="457200" y="3530520"/>
            <a:ext cx="2052720" cy="8636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Calibri"/>
              </a:rPr>
              <a:t>Riesgo de mala adaptació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Rounded Rectangle 14"/>
          <p:cNvSpPr/>
          <p:nvPr/>
        </p:nvSpPr>
        <p:spPr>
          <a:xfrm>
            <a:off x="2971800" y="1316160"/>
            <a:ext cx="1440000" cy="528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Ninguna o baja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Rounded Rectangle 15"/>
          <p:cNvSpPr/>
          <p:nvPr/>
        </p:nvSpPr>
        <p:spPr>
          <a:xfrm>
            <a:off x="2987640" y="1989000"/>
            <a:ext cx="1441440" cy="432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Media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Rounded Rectangle 16"/>
          <p:cNvSpPr/>
          <p:nvPr/>
        </p:nvSpPr>
        <p:spPr>
          <a:xfrm>
            <a:off x="2987640" y="2511360"/>
            <a:ext cx="1441440" cy="43200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lta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Rounded Rectangle 17"/>
          <p:cNvSpPr/>
          <p:nvPr/>
        </p:nvSpPr>
        <p:spPr>
          <a:xfrm>
            <a:off x="2971800" y="35053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4" name="Rounded Rectangle 18"/>
          <p:cNvSpPr/>
          <p:nvPr/>
        </p:nvSpPr>
        <p:spPr>
          <a:xfrm>
            <a:off x="2987640" y="4097160"/>
            <a:ext cx="1440000" cy="43200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Sí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Rounded Rectangle 19"/>
          <p:cNvSpPr/>
          <p:nvPr/>
        </p:nvSpPr>
        <p:spPr>
          <a:xfrm>
            <a:off x="2987640" y="51721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b6e134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62673"/>
                </a:solidFill>
                <a:latin typeface="Calibri"/>
              </a:rPr>
              <a:t>Insignificant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TextBox 20"/>
          <p:cNvSpPr/>
          <p:nvPr/>
        </p:nvSpPr>
        <p:spPr>
          <a:xfrm>
            <a:off x="2948040" y="6381720"/>
            <a:ext cx="4824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262673"/>
                </a:solidFill>
                <a:latin typeface="Calibri"/>
              </a:rPr>
              <a:t>(*) De forma proporcional al tamaño/alcance de la intervención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ounded Rectangle 1"/>
          <p:cNvSpPr/>
          <p:nvPr/>
        </p:nvSpPr>
        <p:spPr>
          <a:xfrm>
            <a:off x="324000" y="1413000"/>
            <a:ext cx="3024000" cy="6127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La evaluación, ¿está relacionada con: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Rounded Rectangle 2"/>
          <p:cNvSpPr/>
          <p:nvPr/>
        </p:nvSpPr>
        <p:spPr>
          <a:xfrm>
            <a:off x="324000" y="2151000"/>
            <a:ext cx="3024000" cy="612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una política, estrategia, programa o proyecto específico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Flowchart: Decision 3"/>
          <p:cNvSpPr/>
          <p:nvPr/>
        </p:nvSpPr>
        <p:spPr>
          <a:xfrm>
            <a:off x="3995640" y="2241720"/>
            <a:ext cx="1152720" cy="43164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Rounded Rectangle 4"/>
          <p:cNvSpPr/>
          <p:nvPr/>
        </p:nvSpPr>
        <p:spPr>
          <a:xfrm>
            <a:off x="5796000" y="2486160"/>
            <a:ext cx="2879640" cy="61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Calibri"/>
              </a:rPr>
              <a:t>Evaluación de vulnerabilidad y adaptació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1" name="Flowchart: Decision 6"/>
          <p:cNvSpPr/>
          <p:nvPr/>
        </p:nvSpPr>
        <p:spPr>
          <a:xfrm>
            <a:off x="1260360" y="2960640"/>
            <a:ext cx="1150920" cy="43200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Sí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Rounded Rectangle 7"/>
          <p:cNvSpPr/>
          <p:nvPr/>
        </p:nvSpPr>
        <p:spPr>
          <a:xfrm>
            <a:off x="324000" y="3591000"/>
            <a:ext cx="3024000" cy="6112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una política, plan, programa o estrategia específica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Flowchart: Decision 8"/>
          <p:cNvSpPr/>
          <p:nvPr/>
        </p:nvSpPr>
        <p:spPr>
          <a:xfrm>
            <a:off x="3995640" y="3537000"/>
            <a:ext cx="1152720" cy="72072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Sí </a:t>
            </a: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(†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Flowchart: Decision 11"/>
          <p:cNvSpPr/>
          <p:nvPr/>
        </p:nvSpPr>
        <p:spPr>
          <a:xfrm>
            <a:off x="1260360" y="4400640"/>
            <a:ext cx="1150920" cy="43164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Rounded Rectangle 13"/>
          <p:cNvSpPr/>
          <p:nvPr/>
        </p:nvSpPr>
        <p:spPr>
          <a:xfrm>
            <a:off x="324000" y="5029200"/>
            <a:ext cx="3024000" cy="612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un proyecto específico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Flowchart: Decision 14"/>
          <p:cNvSpPr/>
          <p:nvPr/>
        </p:nvSpPr>
        <p:spPr>
          <a:xfrm>
            <a:off x="3995640" y="4975200"/>
            <a:ext cx="1152720" cy="72072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Sí </a:t>
            </a: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(†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Rounded Rectangle 15"/>
          <p:cNvSpPr/>
          <p:nvPr/>
        </p:nvSpPr>
        <p:spPr>
          <a:xfrm>
            <a:off x="5796000" y="3591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Calibri"/>
              </a:rPr>
              <a:t>Evaluación Ambiental Estratégica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Rounded Rectangle 17"/>
          <p:cNvSpPr/>
          <p:nvPr/>
        </p:nvSpPr>
        <p:spPr>
          <a:xfrm>
            <a:off x="5796000" y="50292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7f7f7f"/>
                </a:solidFill>
                <a:latin typeface="Calibri"/>
              </a:rPr>
              <a:t>Evaluación de Impacto Ambiental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TextBox 18"/>
          <p:cNvSpPr/>
          <p:nvPr/>
        </p:nvSpPr>
        <p:spPr>
          <a:xfrm>
            <a:off x="5219640" y="6021360"/>
            <a:ext cx="34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Calibri"/>
              </a:rPr>
              <a:t>(*) Con TdR adaptados paraincluir consideraciones relativas al clima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90" name="Straight Arrow Connector 20"/>
          <p:cNvCxnSpPr>
            <a:stCxn id="278" idx="3"/>
            <a:endCxn id="279" idx="1"/>
          </p:cNvCxnSpPr>
          <p:nvPr/>
        </p:nvCxnSpPr>
        <p:spPr>
          <a:xfrm flipV="1">
            <a:off x="3347640" y="2456640"/>
            <a:ext cx="648360" cy="1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1" name="Straight Arrow Connector 24"/>
          <p:cNvCxnSpPr>
            <a:stCxn id="282" idx="3"/>
            <a:endCxn id="283" idx="1"/>
          </p:cNvCxnSpPr>
          <p:nvPr/>
        </p:nvCxnSpPr>
        <p:spPr>
          <a:xfrm>
            <a:off x="3347640" y="3897000"/>
            <a:ext cx="648360" cy="1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2" name="Straight Arrow Connector 26"/>
          <p:cNvCxnSpPr>
            <a:stCxn id="283" idx="3"/>
            <a:endCxn id="287" idx="1"/>
          </p:cNvCxnSpPr>
          <p:nvPr/>
        </p:nvCxnSpPr>
        <p:spPr>
          <a:xfrm>
            <a:off x="5148000" y="3897360"/>
            <a:ext cx="648360" cy="21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293" name="Straight Arrow Connector 37"/>
          <p:cNvCxnSpPr>
            <a:stCxn id="285" idx="3"/>
            <a:endCxn id="286" idx="1"/>
          </p:cNvCxnSpPr>
          <p:nvPr/>
        </p:nvCxnSpPr>
        <p:spPr>
          <a:xfrm>
            <a:off x="3347640" y="5335200"/>
            <a:ext cx="648360" cy="1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4" name="Straight Arrow Connector 39"/>
          <p:cNvCxnSpPr>
            <a:stCxn id="286" idx="3"/>
            <a:endCxn id="288" idx="1"/>
          </p:cNvCxnSpPr>
          <p:nvPr/>
        </p:nvCxnSpPr>
        <p:spPr>
          <a:xfrm>
            <a:off x="5148000" y="5335560"/>
            <a:ext cx="648360" cy="21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295" name="Straight Arrow Connector 46"/>
          <p:cNvCxnSpPr>
            <a:stCxn id="278" idx="2"/>
            <a:endCxn id="281" idx="0"/>
          </p:cNvCxnSpPr>
          <p:nvPr/>
        </p:nvCxnSpPr>
        <p:spPr>
          <a:xfrm>
            <a:off x="1835280" y="2763360"/>
            <a:ext cx="2160" cy="19764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6" name="Straight Arrow Connector 48"/>
          <p:cNvCxnSpPr>
            <a:stCxn id="281" idx="2"/>
            <a:endCxn id="282" idx="0"/>
          </p:cNvCxnSpPr>
          <p:nvPr/>
        </p:nvCxnSpPr>
        <p:spPr>
          <a:xfrm flipH="1">
            <a:off x="1834920" y="3392280"/>
            <a:ext cx="2160" cy="199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7" name="Straight Arrow Connector 50"/>
          <p:cNvCxnSpPr>
            <a:stCxn id="282" idx="2"/>
            <a:endCxn id="284" idx="0"/>
          </p:cNvCxnSpPr>
          <p:nvPr/>
        </p:nvCxnSpPr>
        <p:spPr>
          <a:xfrm>
            <a:off x="1835280" y="4201920"/>
            <a:ext cx="2160" cy="199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8" name="Straight Arrow Connector 56"/>
          <p:cNvCxnSpPr>
            <a:stCxn id="284" idx="2"/>
            <a:endCxn id="285" idx="0"/>
          </p:cNvCxnSpPr>
          <p:nvPr/>
        </p:nvCxnSpPr>
        <p:spPr>
          <a:xfrm flipH="1">
            <a:off x="1834920" y="4831920"/>
            <a:ext cx="2160" cy="19764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sp>
        <p:nvSpPr>
          <p:cNvPr id="299" name="TextBox 47"/>
          <p:cNvSpPr/>
          <p:nvPr/>
        </p:nvSpPr>
        <p:spPr>
          <a:xfrm>
            <a:off x="179280" y="6093000"/>
            <a:ext cx="453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c8c93"/>
                </a:solidFill>
                <a:latin typeface="Calibri"/>
              </a:rPr>
              <a:t>(†) El tamizado de riesgo climático puede aplicarse antes de realizar una evaluación más detallada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Slide Number Placeholder 2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4D79-B59A-44DC-89F2-8CD5421E14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Rounded Rectangle 38"/>
          <p:cNvSpPr/>
          <p:nvPr/>
        </p:nvSpPr>
        <p:spPr>
          <a:xfrm>
            <a:off x="5791320" y="1725480"/>
            <a:ext cx="2879640" cy="61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Calibri"/>
              </a:rPr>
              <a:t>Evaluación Integrada de Ecosistema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02" name="Elbow Connector 19"/>
          <p:cNvCxnSpPr>
            <a:stCxn id="279" idx="3"/>
            <a:endCxn id="301" idx="1"/>
          </p:cNvCxnSpPr>
          <p:nvPr/>
        </p:nvCxnSpPr>
        <p:spPr>
          <a:xfrm flipV="1">
            <a:off x="5148360" y="2031480"/>
            <a:ext cx="643320" cy="426240"/>
          </a:xfrm>
          <a:prstGeom prst="bentConnector3">
            <a:avLst>
              <a:gd name="adj1" fmla="val 50000"/>
            </a:avLst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303" name="Elbow Connector 23"/>
          <p:cNvCxnSpPr>
            <a:stCxn id="279" idx="3"/>
            <a:endCxn id="280" idx="1"/>
          </p:cNvCxnSpPr>
          <p:nvPr/>
        </p:nvCxnSpPr>
        <p:spPr>
          <a:xfrm>
            <a:off x="5148000" y="2457360"/>
            <a:ext cx="648360" cy="334080"/>
          </a:xfrm>
          <a:prstGeom prst="bentConnector3">
            <a:avLst>
              <a:gd name="adj1" fmla="val 50000"/>
            </a:avLst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Pasar a la acció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2285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tegración del medio ambiente y del cambio climático en las políticas, las estrategias y los programas nacionales y sectorial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9E83-225A-4774-8C6E-72A005A313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7" name="Rounded Rectangle 4"/>
          <p:cNvSpPr/>
          <p:nvPr/>
        </p:nvSpPr>
        <p:spPr>
          <a:xfrm>
            <a:off x="1866960" y="3962520"/>
            <a:ext cx="5410080" cy="2058840"/>
          </a:xfrm>
          <a:prstGeom prst="roundRect">
            <a:avLst>
              <a:gd name="adj" fmla="val 16667"/>
            </a:avLst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f7b"/>
                </a:solidFill>
                <a:latin typeface="Verdana"/>
              </a:rPr>
              <a:t>¿Qué puede hacerse y cuáles son las necesidades institucionales y de capacidades en su país/sector de responsabilidad?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ecapitulación - Mensajes clav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23640" y="1555920"/>
            <a:ext cx="856908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La integración del medio ambiente y del cambio climático a niveles estratégicos de planificación sustenta unas respuestas más integradas, eficaces, eficientes y sostenibl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Los enfoques ascendentes y descendentes son complementarios y la integración también está justificada a nivel local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Se dispone de muchas herramientas y enfoques para apoyar la integración del medio ambiente y del cambio climático en políticas, estrategias, programas y proyecto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Tanto las evaluaciones como los estudios ad-hoc, así como la integración de las consideraciones ambientales y climáticas en los estudios de viabilidad/formulación apoyan este proceso de integració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8038-DD56-41B3-A423-57B6DBF796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4920" y="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Bibliografía clav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28600" y="150768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C (2009a) EC Cooperation: Responding to Climate </a:t>
            </a:r>
            <a:br>
              <a:rPr sz="1800"/>
            </a:b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hange – Serie </a:t>
            </a:r>
            <a:r>
              <a:rPr b="0" lang="ja-JP" sz="18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ector scripts</a:t>
            </a:r>
            <a:r>
              <a:rPr b="0" lang="ja-JP" sz="18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. Comisión Europea, Brusela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omisión Europea (2009b) Directrices para la integración del medio ambiente y el cambio climático en la cooperación al desarrollo. Comisión Europea, Brusela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OCDE DCD (2006) Applying Strategic Environmental Assessment, good practice guidance for development co-operation. OCDE: París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 (2010) Screening tools and guidelines to support the mainstreaming of climate change adaptation into development assistance – a stocktaking repor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-UNEP (2011) Mainstreaming Adaptation to Climate Change into Development Planning: A Guide for Practitioners. UNDP-UNEP Poverty-Environment Initiative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, UNEP, UNEP Riso Centre (2011) Climate risk screening tools and their application. CC DARE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FC3B-AC01-4BF6-90D6-30B23765BF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Bibliografí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24000" y="1268280"/>
            <a:ext cx="83628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essai, S and Hulme, M (2004) Does climate adaptation policy need probabilities? Climate Policy, vol. 4 (2) 107-128. Disponible en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mikehulme.org/wp-content/uploads/2007/04/2004-dessai-hulme-probabilities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GTZ (nd) Strategic Environmental Assessment, a practice-oriented training for policy-makers, administration officials, consultants and NGO representatives. Presentación de powerpoint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CDE (2009a) Integración de la Adaptación en la Cooperación para el Desarrollo: Guía sobre políticas. Ediciones OCDE, París. [Sólo lectura, edición navegable] Disponible en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browse.oecdbookshop.org/oecd/pdfs/browseit/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4309171E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CDE DCD (2010) Strategic Environmental Assessment and Adaptation to Climate Change. OCDE: París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lhoff A. &amp; Schaer C. (2010) Screening tools and guidelines to support the mainstreaming of climate change adaptation into development assistance: Un informe de evaluación. Environment &amp; Energy Group, United Nations Development Programme, New York. Disponible en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http://www.undp.org/climatechange/library_integrating_cc.shtm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8AEF-05FC-41BF-9F9E-48B3B5AC68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¿Por qué integrar a niveles de planificación estratégica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3657600" y="4876920"/>
            <a:ext cx="1676520" cy="1066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Oval 4"/>
          <p:cNvSpPr/>
          <p:nvPr/>
        </p:nvSpPr>
        <p:spPr>
          <a:xfrm>
            <a:off x="1028880" y="1447920"/>
            <a:ext cx="4914720" cy="4876560"/>
          </a:xfrm>
          <a:prstGeom prst="ellipse">
            <a:avLst/>
          </a:prstGeom>
          <a:noFill/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3657600" y="3886200"/>
            <a:ext cx="1676520" cy="1066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3657600" y="2895480"/>
            <a:ext cx="1676520" cy="106704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914400" y="2133720"/>
            <a:ext cx="182880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Nivel naciona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3962520" y="323064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1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3962520" y="4267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2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3962520" y="51814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6019920" y="2340000"/>
            <a:ext cx="1792080" cy="58068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Estado del medio ambient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6019920" y="5857920"/>
            <a:ext cx="1792080" cy="58068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Situación socioeconómica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0" name="Straight Arrow Connector 14"/>
          <p:cNvCxnSpPr>
            <a:stCxn id="108" idx="2"/>
            <a:endCxn id="109" idx="0"/>
          </p:cNvCxnSpPr>
          <p:nvPr/>
        </p:nvCxnSpPr>
        <p:spPr>
          <a:xfrm flipH="1">
            <a:off x="6915960" y="3171600"/>
            <a:ext cx="1080" cy="2686680"/>
          </a:xfrm>
          <a:prstGeom prst="straightConnector1">
            <a:avLst/>
          </a:prstGeom>
          <a:ln w="38160">
            <a:solidFill>
              <a:srgbClr val="0099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1" name="Straight Arrow Connector 16"/>
          <p:cNvCxnSpPr>
            <a:stCxn id="108" idx="1"/>
            <a:endCxn id="103" idx="7"/>
          </p:cNvCxnSpPr>
          <p:nvPr/>
        </p:nvCxnSpPr>
        <p:spPr>
          <a:xfrm flipH="1">
            <a:off x="5087160" y="2755800"/>
            <a:ext cx="932760" cy="295560"/>
          </a:xfrm>
          <a:prstGeom prst="straightConnector1">
            <a:avLst/>
          </a:prstGeom>
          <a:ln w="38160">
            <a:solidFill>
              <a:srgbClr val="ff33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2" name="Straight Arrow Connector 18"/>
          <p:cNvCxnSpPr/>
          <p:nvPr/>
        </p:nvCxnSpPr>
        <p:spPr>
          <a:xfrm flipH="1">
            <a:off x="5181120" y="3047760"/>
            <a:ext cx="1067760" cy="10674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3" name="Straight Arrow Connector 20"/>
          <p:cNvCxnSpPr/>
          <p:nvPr/>
        </p:nvCxnSpPr>
        <p:spPr>
          <a:xfrm flipH="1">
            <a:off x="5257440" y="3048120"/>
            <a:ext cx="1296000" cy="21340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4" name="Straight Arrow Connector 22"/>
          <p:cNvCxnSpPr/>
          <p:nvPr/>
        </p:nvCxnSpPr>
        <p:spPr>
          <a:xfrm flipH="1" flipV="1">
            <a:off x="5257440" y="3657240"/>
            <a:ext cx="1296000" cy="2210400"/>
          </a:xfrm>
          <a:prstGeom prst="straightConnector1">
            <a:avLst/>
          </a:prstGeom>
          <a:ln w="38160">
            <a:solidFill>
              <a:srgbClr val="ff33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5" name="Straight Arrow Connector 24"/>
          <p:cNvCxnSpPr/>
          <p:nvPr/>
        </p:nvCxnSpPr>
        <p:spPr>
          <a:xfrm flipH="1" flipV="1">
            <a:off x="5333760" y="4647960"/>
            <a:ext cx="838800" cy="12196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6" name="Straight Arrow Connector 26"/>
          <p:cNvCxnSpPr>
            <a:stCxn id="109" idx="1"/>
          </p:cNvCxnSpPr>
          <p:nvPr/>
        </p:nvCxnSpPr>
        <p:spPr>
          <a:xfrm flipH="1" flipV="1">
            <a:off x="5257080" y="5638320"/>
            <a:ext cx="762840" cy="511920"/>
          </a:xfrm>
          <a:prstGeom prst="straightConnector1">
            <a:avLst/>
          </a:prstGeom>
          <a:ln w="38160">
            <a:solidFill>
              <a:srgbClr val="ff3300"/>
            </a:solidFill>
            <a:miter/>
            <a:headEnd len="med" type="arrow" w="med"/>
            <a:tailEnd len="med" type="arrow" w="med"/>
          </a:ln>
        </p:spPr>
      </p:cxnSp>
      <p:sp>
        <p:nvSpPr>
          <p:cNvPr id="117" name="TextBox 29"/>
          <p:cNvSpPr/>
          <p:nvPr/>
        </p:nvSpPr>
        <p:spPr>
          <a:xfrm>
            <a:off x="1371600" y="3352680"/>
            <a:ext cx="167652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</a:rPr>
              <a:t>Coordinación del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TextBox 30"/>
          <p:cNvSpPr/>
          <p:nvPr/>
        </p:nvSpPr>
        <p:spPr>
          <a:xfrm>
            <a:off x="1371600" y="4572000"/>
            <a:ext cx="1676520" cy="1191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</a:rPr>
              <a:t>Asignación de recursos en los sector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9" name="Straight Arrow Connector 32"/>
          <p:cNvCxnSpPr>
            <a:stCxn id="117" idx="3"/>
            <a:endCxn id="103" idx="2"/>
          </p:cNvCxnSpPr>
          <p:nvPr/>
        </p:nvCxnSpPr>
        <p:spPr>
          <a:xfrm flipV="1">
            <a:off x="3047760" y="3428640"/>
            <a:ext cx="610200" cy="24696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0" name="Straight Arrow Connector 34"/>
          <p:cNvCxnSpPr>
            <a:stCxn id="117" idx="3"/>
            <a:endCxn id="102" idx="2"/>
          </p:cNvCxnSpPr>
          <p:nvPr/>
        </p:nvCxnSpPr>
        <p:spPr>
          <a:xfrm>
            <a:off x="3047760" y="3675240"/>
            <a:ext cx="610200" cy="74520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1" name="Straight Arrow Connector 36"/>
          <p:cNvCxnSpPr>
            <a:stCxn id="117" idx="3"/>
            <a:endCxn id="100" idx="2"/>
          </p:cNvCxnSpPr>
          <p:nvPr/>
        </p:nvCxnSpPr>
        <p:spPr>
          <a:xfrm>
            <a:off x="3047760" y="3674880"/>
            <a:ext cx="610200" cy="173556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2" name="Straight Arrow Connector 38"/>
          <p:cNvCxnSpPr>
            <a:stCxn id="118" idx="3"/>
            <a:endCxn id="103" idx="2"/>
          </p:cNvCxnSpPr>
          <p:nvPr/>
        </p:nvCxnSpPr>
        <p:spPr>
          <a:xfrm flipV="1">
            <a:off x="3047760" y="3428640"/>
            <a:ext cx="610200" cy="174384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3" name="Straight Arrow Connector 40"/>
          <p:cNvCxnSpPr>
            <a:stCxn id="118" idx="3"/>
            <a:endCxn id="102" idx="2"/>
          </p:cNvCxnSpPr>
          <p:nvPr/>
        </p:nvCxnSpPr>
        <p:spPr>
          <a:xfrm flipV="1">
            <a:off x="3047760" y="4419360"/>
            <a:ext cx="610200" cy="75312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4" name="Straight Arrow Connector 42"/>
          <p:cNvCxnSpPr>
            <a:stCxn id="118" idx="3"/>
            <a:endCxn id="100" idx="2"/>
          </p:cNvCxnSpPr>
          <p:nvPr/>
        </p:nvCxnSpPr>
        <p:spPr>
          <a:xfrm>
            <a:off x="3047760" y="5171760"/>
            <a:ext cx="610200" cy="2386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125" name="Left Brace 43"/>
          <p:cNvSpPr/>
          <p:nvPr/>
        </p:nvSpPr>
        <p:spPr>
          <a:xfrm>
            <a:off x="685800" y="2933640"/>
            <a:ext cx="380880" cy="2971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2971800"/>
              <a:gd name="textAreaBottom" fmla="*/ 296208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1"/>
                </a:cubicBezTo>
                <a:lnTo>
                  <a:pt x="10800" y="10569"/>
                </a:lnTo>
                <a:cubicBezTo>
                  <a:pt x="10800" y="10685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1"/>
                </a:cubicBezTo>
                <a:lnTo>
                  <a:pt x="10800" y="21369"/>
                </a:lnTo>
                <a:cubicBezTo>
                  <a:pt x="10800" y="2148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TextBox 44"/>
          <p:cNvSpPr/>
          <p:nvPr/>
        </p:nvSpPr>
        <p:spPr>
          <a:xfrm rot="16200000">
            <a:off x="-1511280" y="389232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Más: Respuestas integradas -efectivas-eficientes-sostenib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Slide Number Placeholder 31"/>
          <p:cNvSpPr/>
          <p:nvPr/>
        </p:nvSpPr>
        <p:spPr>
          <a:xfrm>
            <a:off x="6705720" y="7147080"/>
            <a:ext cx="2133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C210-941E-4294-A79B-3599F86B30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TextBox 45"/>
          <p:cNvSpPr/>
          <p:nvPr/>
        </p:nvSpPr>
        <p:spPr>
          <a:xfrm>
            <a:off x="7543800" y="4114800"/>
            <a:ext cx="1349280" cy="64260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ambio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limático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TextBox 49"/>
          <p:cNvSpPr/>
          <p:nvPr/>
        </p:nvSpPr>
        <p:spPr>
          <a:xfrm>
            <a:off x="7380360" y="3276720"/>
            <a:ext cx="166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Impactos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biofísico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TextBox 56"/>
          <p:cNvSpPr/>
          <p:nvPr/>
        </p:nvSpPr>
        <p:spPr>
          <a:xfrm>
            <a:off x="6948360" y="5029200"/>
            <a:ext cx="23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Impactos socioeconómico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Straight Connector 60"/>
          <p:cNvSpPr/>
          <p:nvPr/>
        </p:nvSpPr>
        <p:spPr>
          <a:xfrm flipH="1" flipV="1">
            <a:off x="8213400" y="3860640"/>
            <a:ext cx="4680" cy="2541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Straight Connector 62"/>
          <p:cNvSpPr/>
          <p:nvPr/>
        </p:nvSpPr>
        <p:spPr>
          <a:xfrm>
            <a:off x="8218440" y="4761000"/>
            <a:ext cx="25560" cy="323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33" name="Elbow Connector 19460"/>
          <p:cNvCxnSpPr>
            <a:stCxn id="129" idx="0"/>
            <a:endCxn id="108" idx="3"/>
          </p:cNvCxnSpPr>
          <p:nvPr/>
        </p:nvCxnSpPr>
        <p:spPr>
          <a:xfrm flipV="1" rot="16200000">
            <a:off x="7751880" y="2814480"/>
            <a:ext cx="521640" cy="40248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34" name="Elbow Connector 19466"/>
          <p:cNvCxnSpPr/>
          <p:nvPr/>
        </p:nvCxnSpPr>
        <p:spPr>
          <a:xfrm rot="5400000">
            <a:off x="7821360" y="5653080"/>
            <a:ext cx="660600" cy="53424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8229600" cy="9349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¿Por qué integrar a niveles de planificación estratégica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684360" y="2276640"/>
            <a:ext cx="37796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Marco global de políticas orientadora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4572000" y="227664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Aplicación e implementación de las políticas nacional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1676520" y="1523880"/>
            <a:ext cx="1828800" cy="70380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</a:rPr>
              <a:t>Nivel nacional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5638680" y="1523880"/>
            <a:ext cx="1828800" cy="703800"/>
          </a:xfrm>
          <a:prstGeom prst="rect">
            <a:avLst/>
          </a:prstGeom>
          <a:solidFill>
            <a:srgbClr val="00b0f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</a:rPr>
              <a:t>Nivel sectorial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684360" y="3573360"/>
            <a:ext cx="37796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Desempeño de algunas funciones clave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4572000" y="354348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Iniciativas propias, desarrollo de capacidades y buenas práctica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4572000" y="299736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Legislación/reglamentación específica del sector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684360" y="2924280"/>
            <a:ext cx="3958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Legislación/reglamentación nacional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684360" y="4292640"/>
            <a:ext cx="3958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Gestión de relaciones internacional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4500720" y="4508640"/>
            <a:ext cx="441936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Cooperación transfronteriza en cuestiones medioambientales y climática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2627280" y="537372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Amplio abanico de recurso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TextBox 14"/>
          <p:cNvSpPr/>
          <p:nvPr/>
        </p:nvSpPr>
        <p:spPr>
          <a:xfrm>
            <a:off x="395280" y="6093000"/>
            <a:ext cx="7993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Mayores capacidades y fortalecimiento institucional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TextBox 15"/>
          <p:cNvSpPr/>
          <p:nvPr/>
        </p:nvSpPr>
        <p:spPr>
          <a:xfrm>
            <a:off x="2340000" y="5732640"/>
            <a:ext cx="4608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Mayor apropiación de las respuesta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Slide Number Placeholder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F131-D0C2-43B9-B7DF-041391BE1C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TextBox 17"/>
          <p:cNvSpPr/>
          <p:nvPr/>
        </p:nvSpPr>
        <p:spPr>
          <a:xfrm>
            <a:off x="5987880" y="650556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ado de: OCDE (2009a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¿Por qué se debe producir una integración a niveles inferiores de gobernanza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3581280" y="3284640"/>
            <a:ext cx="207036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Niveles locales y subnacional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Rounded Rectangular Callout 5"/>
          <p:cNvSpPr/>
          <p:nvPr/>
        </p:nvSpPr>
        <p:spPr>
          <a:xfrm>
            <a:off x="380880" y="1197000"/>
            <a:ext cx="2210040" cy="2448000"/>
          </a:xfrm>
          <a:prstGeom prst="wedgeRoundRectCallout">
            <a:avLst>
              <a:gd name="adj1" fmla="val 94958"/>
              <a:gd name="adj2" fmla="val 48949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Mejores niveles para observar/entender los impactos sobre el desarrollo, el medio ambiente y el cambio climátic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Rounded Rectangular Callout 6"/>
          <p:cNvSpPr/>
          <p:nvPr/>
        </p:nvSpPr>
        <p:spPr>
          <a:xfrm>
            <a:off x="4724280" y="1268280"/>
            <a:ext cx="2133720" cy="1800360"/>
          </a:xfrm>
          <a:prstGeom prst="wedgeRoundRectCallout">
            <a:avLst>
              <a:gd name="adj1" fmla="val -29912"/>
              <a:gd name="adj2" fmla="val 74449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La vulnerabilidad y la capacidad de adaptación son específicas de cada context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Rounded Rectangular Callout 7"/>
          <p:cNvSpPr/>
          <p:nvPr/>
        </p:nvSpPr>
        <p:spPr>
          <a:xfrm>
            <a:off x="762120" y="4724280"/>
            <a:ext cx="2971800" cy="1752840"/>
          </a:xfrm>
          <a:prstGeom prst="wedgeRoundRectCallout">
            <a:avLst>
              <a:gd name="adj1" fmla="val 52342"/>
              <a:gd name="adj2" fmla="val -93263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La mayoría de opciones para responder al deterioro medioambiental y adaptarse al cambio climático exigem una implementación local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Rounded Rectangular Callout 8"/>
          <p:cNvSpPr/>
          <p:nvPr/>
        </p:nvSpPr>
        <p:spPr>
          <a:xfrm>
            <a:off x="5715000" y="4724280"/>
            <a:ext cx="2057400" cy="1295640"/>
          </a:xfrm>
          <a:prstGeom prst="wedgeRoundRectCallout">
            <a:avLst>
              <a:gd name="adj1" fmla="val -67518"/>
              <a:gd name="adj2" fmla="val -106231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Potencial para dirigir/liderar iniciativa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EE87-FC6B-4598-B2A3-8B5BE2533D0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4343400" y="64008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ado de: OCDE (2009a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Verdana"/>
              </a:rPr>
              <a:t>Actores claves e interacciones a distintos nivel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4909-A78B-4DC1-9D13-56BC89A852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8000" y="44280"/>
            <a:ext cx="90360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Enfoques para responder al deterioro medioambiental y adaptarse al cambio climático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Oval 3"/>
          <p:cNvSpPr/>
          <p:nvPr/>
        </p:nvSpPr>
        <p:spPr>
          <a:xfrm>
            <a:off x="3048120" y="1413000"/>
            <a:ext cx="2895480" cy="115236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Nivel nacional, incl. los sector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2971800" y="4952880"/>
            <a:ext cx="3040200" cy="12128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Niveles subnacionales (local en particular)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Down Arrow 5"/>
          <p:cNvSpPr/>
          <p:nvPr/>
        </p:nvSpPr>
        <p:spPr>
          <a:xfrm>
            <a:off x="2438280" y="2743200"/>
            <a:ext cx="990720" cy="2057400"/>
          </a:xfrm>
          <a:prstGeom prst="downArrow">
            <a:avLst>
              <a:gd name="adj1" fmla="val 50000"/>
              <a:gd name="adj2" fmla="val 49994"/>
            </a:avLst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Down Arrow 6"/>
          <p:cNvSpPr/>
          <p:nvPr/>
        </p:nvSpPr>
        <p:spPr>
          <a:xfrm rot="10800000">
            <a:off x="5562360" y="2742840"/>
            <a:ext cx="990360" cy="205740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TextBox 7"/>
          <p:cNvSpPr/>
          <p:nvPr/>
        </p:nvSpPr>
        <p:spPr>
          <a:xfrm rot="5400000">
            <a:off x="2017080" y="3450960"/>
            <a:ext cx="2011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Verdana"/>
              </a:rPr>
              <a:t>Descendiente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TextBox 8"/>
          <p:cNvSpPr/>
          <p:nvPr/>
        </p:nvSpPr>
        <p:spPr>
          <a:xfrm rot="5400000">
            <a:off x="5149800" y="3651480"/>
            <a:ext cx="1828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Ascendente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539640" y="2590920"/>
            <a:ext cx="1936800" cy="21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Basados en el modelo y el escenari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Centrados en los impactos físicos y en la </a:t>
            </a:r>
            <a:r>
              <a:rPr b="1" lang="ja-JP" sz="1600" spc="-1" strike="noStrike">
                <a:solidFill>
                  <a:srgbClr val="0099cc"/>
                </a:solidFill>
                <a:latin typeface="Verdana"/>
              </a:rPr>
              <a:t>‘</a:t>
            </a: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vulnerabilidad biofísica</a:t>
            </a:r>
            <a:r>
              <a:rPr b="1" lang="ja-JP" sz="1600" spc="-1" strike="noStrike">
                <a:solidFill>
                  <a:srgbClr val="0099cc"/>
                </a:solidFill>
                <a:latin typeface="Verdana"/>
              </a:rPr>
              <a:t>’</a:t>
            </a: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TextBox 10"/>
          <p:cNvSpPr/>
          <p:nvPr/>
        </p:nvSpPr>
        <p:spPr>
          <a:xfrm>
            <a:off x="6781680" y="2478240"/>
            <a:ext cx="2111400" cy="26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Enfoque de los acto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Centrados en las condiciones ambientales y socioeconómicas predominantes y en la </a:t>
            </a:r>
            <a:r>
              <a:rPr b="1" lang="ja-JP" sz="1600" spc="-1" strike="noStrike">
                <a:solidFill>
                  <a:srgbClr val="0099cc"/>
                </a:solidFill>
                <a:latin typeface="Verdana"/>
              </a:rPr>
              <a:t>‘</a:t>
            </a: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vulnerabilidad social</a:t>
            </a:r>
            <a:r>
              <a:rPr b="1" lang="ja-JP" sz="1600" spc="-1" strike="noStrike">
                <a:solidFill>
                  <a:srgbClr val="0099cc"/>
                </a:solidFill>
                <a:latin typeface="Verdana"/>
              </a:rPr>
              <a:t>’</a:t>
            </a: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Flowchart: Alternate Process 11"/>
          <p:cNvSpPr/>
          <p:nvPr/>
        </p:nvSpPr>
        <p:spPr>
          <a:xfrm>
            <a:off x="647640" y="1447920"/>
            <a:ext cx="1905120" cy="914400"/>
          </a:xfrm>
          <a:prstGeom prst="flowChartAlternateProcess">
            <a:avLst/>
          </a:prstGeom>
          <a:solidFill>
            <a:srgbClr val="d6ecee"/>
          </a:solidFill>
          <a:ln w="2556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Políticas y estrategias nacional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Flowchart: Alternate Process 12"/>
          <p:cNvSpPr/>
          <p:nvPr/>
        </p:nvSpPr>
        <p:spPr>
          <a:xfrm>
            <a:off x="6819840" y="5334120"/>
            <a:ext cx="1905120" cy="1198440"/>
          </a:xfrm>
          <a:prstGeom prst="flowChartAlternateProcess">
            <a:avLst/>
          </a:prstGeom>
          <a:solidFill>
            <a:srgbClr val="d6ecee"/>
          </a:solidFill>
          <a:ln w="2556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Respuesta comunitaria, proyectos pilot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Straight Connector 14"/>
          <p:cNvSpPr/>
          <p:nvPr/>
        </p:nvSpPr>
        <p:spPr>
          <a:xfrm>
            <a:off x="2552760" y="1905120"/>
            <a:ext cx="380880" cy="838080"/>
          </a:xfrm>
          <a:prstGeom prst="line">
            <a:avLst/>
          </a:prstGeom>
          <a:ln w="2844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Straight Connector 16"/>
          <p:cNvSpPr/>
          <p:nvPr/>
        </p:nvSpPr>
        <p:spPr>
          <a:xfrm flipH="1" flipV="1">
            <a:off x="6058080" y="4800240"/>
            <a:ext cx="761760" cy="1133640"/>
          </a:xfrm>
          <a:prstGeom prst="line">
            <a:avLst/>
          </a:prstGeom>
          <a:ln w="2844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C68C-CB5D-402E-B4B3-56830EE1DE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Rounded Rectangle 15"/>
          <p:cNvSpPr/>
          <p:nvPr/>
        </p:nvSpPr>
        <p:spPr>
          <a:xfrm>
            <a:off x="3505320" y="4005360"/>
            <a:ext cx="1966680" cy="83016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Adaptación al cambio climátic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TextBox 17"/>
          <p:cNvSpPr/>
          <p:nvPr/>
        </p:nvSpPr>
        <p:spPr>
          <a:xfrm>
            <a:off x="380880" y="6257880"/>
            <a:ext cx="24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ación libre de Dessai &amp; Hulme (2004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Rounded Rectangle 18"/>
          <p:cNvSpPr/>
          <p:nvPr/>
        </p:nvSpPr>
        <p:spPr>
          <a:xfrm>
            <a:off x="3505320" y="2743200"/>
            <a:ext cx="1952640" cy="11048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Respuesta al deterioro ambiental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Verdana"/>
              </a:rPr>
              <a:t>Principales puntos de partida para la integración en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Verdana"/>
              </a:rPr>
              <a:t>procesos estratégicos de políticas y planificació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144C-89E1-4D73-A7B8-A9C5887A53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896472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Principales puntos de partida en los ciclos de políticas nacionales y sectoriale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8600" y="1557360"/>
          <a:ext cx="8153280" cy="4572000"/>
        </p:xfrm>
        <a:graphic>
          <a:graphicData uri="http://schemas.openxmlformats.org/drawingml/2006/table">
            <a:tbl>
              <a:tblPr/>
              <a:tblGrid>
                <a:gridCol w="2111400"/>
                <a:gridCol w="3057480"/>
                <a:gridCol w="29844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ase de ciclo político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ivel naciona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ivel sectoria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mulación de política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sión nacional a largo plazo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íticas y estrategias nacional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íticas y estrategias sectorial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ificació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 de desarrollo plurianua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es sectorial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ignación de recurso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supuesto naciona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do(s) relativos al medio ambiente y al clim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taciones presupuestarias sectorial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ursos de fondo(s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12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gramación e implementació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es y presupuestos de desarrollo a nivel sectoria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gramación sectoria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82" name="TextBox 4"/>
          <p:cNvSpPr/>
          <p:nvPr/>
        </p:nvSpPr>
        <p:spPr>
          <a:xfrm>
            <a:off x="3581280" y="640080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ado de: Olhoff &amp; Schaer (2010) Fig. 1, p.10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Rounded Rectangular Callout 5"/>
          <p:cNvSpPr/>
          <p:nvPr/>
        </p:nvSpPr>
        <p:spPr>
          <a:xfrm>
            <a:off x="250920" y="189000"/>
            <a:ext cx="2057400" cy="1523880"/>
          </a:xfrm>
          <a:prstGeom prst="wedgeRoundRectCallout">
            <a:avLst>
              <a:gd name="adj1" fmla="val 28819"/>
              <a:gd name="adj2" fmla="val 119495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Reconocer las relaciones medio ambiente-desarrollo y los riesgos climático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Rounded Rectangular Callout 6"/>
          <p:cNvSpPr/>
          <p:nvPr/>
        </p:nvSpPr>
        <p:spPr>
          <a:xfrm>
            <a:off x="395280" y="5451480"/>
            <a:ext cx="2666880" cy="1371600"/>
          </a:xfrm>
          <a:prstGeom prst="wedgeRoundRectCallout">
            <a:avLst>
              <a:gd name="adj1" fmla="val 10486"/>
              <a:gd name="adj2" fmla="val -164541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Incluir programas/proyectos ambientales y climáticos (sectoriales e intersectoriales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Rounded Rectangular Callout 7"/>
          <p:cNvSpPr/>
          <p:nvPr/>
        </p:nvSpPr>
        <p:spPr>
          <a:xfrm>
            <a:off x="2556000" y="1197000"/>
            <a:ext cx="2438280" cy="1143000"/>
          </a:xfrm>
          <a:prstGeom prst="wedgeRoundRectCallout">
            <a:avLst>
              <a:gd name="adj1" fmla="val -95148"/>
              <a:gd name="adj2" fmla="val 223944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Asignar financiación para la acciones medioambientales y climática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Rounded Rectangular Callout 8"/>
          <p:cNvSpPr/>
          <p:nvPr/>
        </p:nvSpPr>
        <p:spPr>
          <a:xfrm>
            <a:off x="3505320" y="5715000"/>
            <a:ext cx="2666880" cy="1143000"/>
          </a:xfrm>
          <a:prstGeom prst="wedgeRoundRectCallout">
            <a:avLst>
              <a:gd name="adj1" fmla="val 1578"/>
              <a:gd name="adj2" fmla="val -184523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Trasladar la financiación a los sectores/las regiones que sean vulnerables o prioritaria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Rounded Rectangular Callout 9"/>
          <p:cNvSpPr/>
          <p:nvPr/>
        </p:nvSpPr>
        <p:spPr>
          <a:xfrm>
            <a:off x="6629400" y="5589720"/>
            <a:ext cx="2209680" cy="1295280"/>
          </a:xfrm>
          <a:prstGeom prst="wedgeRoundRectCallout">
            <a:avLst>
              <a:gd name="adj1" fmla="val -32643"/>
              <a:gd name="adj2" fmla="val -88282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Incorporar actividades relativas al medio ambiente y al clima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Rounded Rectangular Callout 10"/>
          <p:cNvSpPr/>
          <p:nvPr/>
        </p:nvSpPr>
        <p:spPr>
          <a:xfrm>
            <a:off x="7164360" y="1600200"/>
            <a:ext cx="1979640" cy="2362320"/>
          </a:xfrm>
          <a:prstGeom prst="wedgeRoundRectCallout">
            <a:avLst>
              <a:gd name="adj1" fmla="val -41259"/>
              <a:gd name="adj2" fmla="val 109425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Incluir consideraciones ambientales y climáticas en los criterios de selección de proyecto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B9F5-C4E1-4904-9728-3ACF5224B7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5-19T19:31:11Z</dcterms:modified>
  <cp:revision>136</cp:revision>
  <dc:subject/>
  <dc:title>Slide 1</dc:title>
</cp:coreProperties>
</file>